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chimes.wav" ContentType="audio/x-wav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image15.wmf" ContentType="image/x-wmf"/>
  <Override PartName="/ppt/media/image1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B932-B67D-40D2-8C39-A2AA0B9DD5BC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805E-4292-4A16-A17C-B5F57F5BEF21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6ECB-CF6C-4A75-B952-1B1BD394F271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00C8-F000-451B-B677-6255AF6C0716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060C-91C8-496C-92CE-15566CC7892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A095-0EF2-4334-871A-BEB7EE7A776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4E5D-9D31-403B-96E0-07138655FD1A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9325-FDE1-4769-A32D-F8BDF385C9F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551E-B684-4BC1-975B-34EF1789E513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9A6E-DF8A-4390-99CE-5CA750B879BB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A559-3DBE-48F5-86B6-C9887141BEC3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6DB2-74E6-4896-807B-DE038F86E5F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0E9C-A080-4238-A5BA-D5369E7420C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86C0-DBA2-4582-9E6B-707AF6FC38CA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1096-D986-4A23-B547-B6282D0FD346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943E-6684-49DE-B670-A112081FE652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6754-C256-4E64-AB96-FFFF2874A2DC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73D9-E7B9-42BD-BE02-55362CAB9033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A2C2-8A29-466A-A36E-02A8F6442493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419F-3229-4253-B31E-88EE8B85FE26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B5FE-BCF0-4CE0-B6F2-DE7632A134CB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A63A-05F4-4F5B-B889-4E06DFD1570C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EB7E-4EDB-4ED9-AEFE-6B8B9E2590E2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B246-27EE-4D12-95BB-21ACCFDFF5BB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6427-9452-430B-B7F5-4B707DC354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5171-AFBB-424B-ADE5-8D50DC942C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9289A-185E-4A3D-9BFC-05F1343CB2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49A7-570F-479F-A87E-22C2E73028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7E57-3AA5-472A-AAC8-251376FA9E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E711-4F8A-4F51-A9D1-7D354FABF3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4357-174B-4DF3-A4B1-469B50BACC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F063-013E-43D7-9734-82BFCAD177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13B1-6C15-4F38-B640-F4AE29AB5D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61BE-F3AA-4B4E-ABB8-49A491C8D9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7806-B198-405E-93FA-0FAE71B78A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E6DE-C104-49B3-BADB-9E8BC977CD5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Овал 8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3" name="Овал 8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Овал 9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9"/>
          <p:cNvSpPr/>
          <p:nvPr/>
        </p:nvSpPr>
        <p:spPr>
          <a:xfrm>
            <a:off x="4357800" y="6500880"/>
            <a:ext cx="18572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В. Репин, 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1"/>
          </p:nvPr>
        </p:nvSpPr>
        <p:spPr>
          <a:xfrm>
            <a:off x="8613720" y="6500520"/>
            <a:ext cx="4572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BA21-EFB3-4C1E-9F75-FD3DEB5329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Овал 9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3" name="Овал 9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Овал 12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8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Прямоугольник 8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0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Блок-схема: процесс 9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Блок-схема: процесс 12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7;&#1095;&#1077;&#1089;&#1082;&#1080;&#1081;_&#1103;&#1079;&#1099;&#1082;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3920" y="499680"/>
            <a:ext cx="7643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Сквозные бизнес-процессы в компании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43000" y="2928600"/>
            <a:ext cx="7693200" cy="3500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згляд на организацию, как на систем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ффекты синерги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блемы, возникающие в организации из-за неэффективных процесс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«Сквозные» или межфункциональные процесс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озможные подходы к организации управления сквозными процессам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744E-4EB0-4E57-B155-A2ACC567A0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1413000" y="0"/>
            <a:ext cx="7731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4200" y="3929040"/>
            <a:ext cx="328608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имер № 1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схемы сквозного процесса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ием заказа клиен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71360" y="-71640"/>
            <a:ext cx="74991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Пример № 2 схемы сквозного процесса. Разработка нового продукта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E719-C314-4961-8343-95E7FD64DF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1000080" y="785880"/>
            <a:ext cx="82152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28440" y="0"/>
            <a:ext cx="8001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Пример № 3 схемы сквозного процесса.  Отправка и монтаж оборудования у клиента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5B49-9754-4FB1-9268-C0BF674AE1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1000080" y="777960"/>
            <a:ext cx="815040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9720" y="70920"/>
            <a:ext cx="7929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Пример № 4 схемы сквозного процесса.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Выпуск «газеты» меню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0707-029B-474F-93E4-769D6A7F11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1"/>
          <a:stretch/>
        </p:blipFill>
        <p:spPr>
          <a:xfrm>
            <a:off x="0" y="928800"/>
            <a:ext cx="9215280" cy="59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8715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Некоторые критерии определения сквозных процессов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вв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1EB6-55A0-4F3D-ACE5-447BA1744F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71280" y="1285920"/>
            <a:ext cx="9001440" cy="25858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-360" y="4000320"/>
            <a:ext cx="900108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ыход поставляется внешнему (внутреннему) потребителю 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уществует активное взаимодействие подразделения, выполняющего процесс, с другими подразделениями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для получения выхода процессу необходимы ресурсы, которые полностью не могут быть произведены внутри самого процесса и должны поставляться из других процессов на промежуточных стадиях выполнения процесса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Руководитель подразделения не может обеспечить требуемые показатели выхода (результативность, качество) и удовлетворенность клиента, 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ущественная (большая) часть поставляемого потребителю продукта/услуги формируется в других процессах на предыдущих стадиях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Что дает выделение сквозных процессов?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71360" y="16426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нимание  менеджментом организации как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ИСТЕМЫ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 реальное управление процессами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трудники начинают «видеть процессы целиком» и понимают свою роль в удовлетворении потребностей клиенто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лучшение взаимодействия вовлеченных в сквозные процессы подразделений (сотрудников) и достижение синергетических эффекто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к следствие «работы» со сквозными процессами повышается результативность, эффективность и качество.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ИСТЕМ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зменяет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7E38-7A09-4E5B-A29E-F3FE264B85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Примеры реальных улучшений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143000" y="1428480"/>
            <a:ext cx="76485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величение объема производства в 2 раза (на тех же площадях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кращение цикла разработки нового изделия с 8 до 4 месяце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кращение до нуля числа случаев поставки некомплектного оборудова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нижение времени простоев оборудования в 2 раз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кращение времени подготовки ответа на заявку клиента с 2 недель до 3-4 дне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AB90-FFA5-4CAE-BEF3-100D40FC9A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9720" y="71280"/>
            <a:ext cx="85726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Какие процессы не являются сквозными?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3007-099C-4685-850F-8E4F006482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642960"/>
          <a:ext cx="9144000" cy="6215040"/>
        </p:xfrm>
        <a:graphic>
          <a:graphicData uri="http://schemas.openxmlformats.org/drawingml/2006/table">
            <a:tbl>
              <a:tblPr/>
              <a:tblGrid>
                <a:gridCol w="3214800"/>
                <a:gridCol w="5929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аименование проц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Интерпре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Процесс закупки, производства и отгрузки товарных свине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не сквозной процесс, а часть цепочки создания ценности , выполняемой организа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Процесс производства готовой продукц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не сквозной процесс, а последовательность процессов, обусловленная технологией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Деятельность отдела сбыт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не сквозной процесс, а набор фрагментов различных проце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Процесс коммуникаций в организац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вообще не процесс с точки зрения управления, так как нельзя корректно определить его гран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Процедура управления документацией внутреннего происхожд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не сквозной процесс, а описание последовательности шагов по обработке документов определенного ти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перационная  цепочка (описанная в виде схемы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RI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sewis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ил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usiness-Studi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) из 58 шаг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не сквозной процесс, а некоторое субъективное представление цепочки операций, случайно объединенных в рамках одной сх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855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«Типовой» перечень сквозных процессов организации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214280" y="1771560"/>
            <a:ext cx="757080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ратегическое управле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ем заказа клиента (в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2B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работка новой продукц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служивание оборудова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крытие нового филиала (проект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юджетирова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ем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вольнение сотрудни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rbel"/>
              </a:rPr>
              <a:t>Перечень сквозных процессов - свой для каждой организации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B79C-8F04-4998-8965-720FA61AFE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2640" y="2901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Как управлять «сквозными» процессами?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43000" y="18568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1. «Ничего не менять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2. «Организация  группы вокруг процесс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3. «Матричное управление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4. «Куратор со стороны высшего руководств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5. «Мониторинг владельцем процесса и куратор свыше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6. «Управление через регламенты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Номер слайда 6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37EF-1AD6-4865-B5FC-E58B014CA3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Организация как система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43000" y="1519200"/>
            <a:ext cx="749952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рганизация – это сложная систем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истема – сеть взаимозависимых компонентов, работающих вместе для достижения единой цел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Чтобы управлять системой, нужно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понимать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взаимоотношения между всеми компонентами в ее пределах и людьми, которые в ней работаю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истема требует у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«Если компоненты системы оказываются предоставленными сами себе, они быстро становятся эгоистичными, конкурирующими, независимыми и таким образом уничтожают систему…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1316-5343-4D87-82A2-04E1522C8B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8760" y="5467320"/>
            <a:ext cx="29923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Corbel"/>
              </a:rPr>
              <a:t>Организация группы вокруг процесса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0" y="2143080"/>
            <a:ext cx="3773520" cy="30211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6"/>
          <p:cNvSpPr/>
          <p:nvPr/>
        </p:nvSpPr>
        <p:spPr>
          <a:xfrm>
            <a:off x="1208160" y="318960"/>
            <a:ext cx="7792920" cy="13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f271c"/>
                </a:solidFill>
                <a:latin typeface="Corbel"/>
              </a:rPr>
              <a:t>Управление сквозными процессам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2"/>
          <a:stretch/>
        </p:blipFill>
        <p:spPr>
          <a:xfrm>
            <a:off x="3840120" y="1928880"/>
            <a:ext cx="5303880" cy="3241440"/>
          </a:xfrm>
          <a:prstGeom prst="rect">
            <a:avLst/>
          </a:prstGeom>
          <a:ln w="0">
            <a:noFill/>
          </a:ln>
        </p:spPr>
      </p:pic>
      <p:sp>
        <p:nvSpPr>
          <p:cNvPr id="412" name="Заголовок 5"/>
          <p:cNvSpPr/>
          <p:nvPr/>
        </p:nvSpPr>
        <p:spPr>
          <a:xfrm>
            <a:off x="4714920" y="5143680"/>
            <a:ext cx="36352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f271c"/>
                </a:solidFill>
                <a:latin typeface="Corbel"/>
              </a:rPr>
              <a:t>Матричное управление процесс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11"/>
          <p:cNvSpPr/>
          <p:nvPr/>
        </p:nvSpPr>
        <p:spPr>
          <a:xfrm flipH="1">
            <a:off x="3785760" y="1928880"/>
            <a:ext cx="1800" cy="47880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Номер слайда 10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A1BE-F460-4268-B964-E9A8C1A80D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1680" y="5929200"/>
            <a:ext cx="299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Corbel"/>
              </a:rPr>
              <a:t>Куратор со стороны вышестоящего руководства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1143000" y="214200"/>
            <a:ext cx="77929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f271c"/>
                </a:solidFill>
                <a:latin typeface="Corbel"/>
              </a:rPr>
              <a:t>Управление сквозными процессам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11"/>
          <p:cNvSpPr/>
          <p:nvPr/>
        </p:nvSpPr>
        <p:spPr>
          <a:xfrm flipH="1">
            <a:off x="4357800" y="1928880"/>
            <a:ext cx="1440" cy="47862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155520" y="2071800"/>
            <a:ext cx="3773520" cy="37670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4857840" y="1857240"/>
            <a:ext cx="3790800" cy="3988080"/>
          </a:xfrm>
          <a:prstGeom prst="rect">
            <a:avLst/>
          </a:prstGeom>
          <a:ln w="0">
            <a:noFill/>
          </a:ln>
        </p:spPr>
      </p:pic>
      <p:sp>
        <p:nvSpPr>
          <p:cNvPr id="420" name="Заголовок 5"/>
          <p:cNvSpPr/>
          <p:nvPr/>
        </p:nvSpPr>
        <p:spPr>
          <a:xfrm>
            <a:off x="5357880" y="5929200"/>
            <a:ext cx="299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f271c"/>
                </a:solidFill>
                <a:latin typeface="Corbel"/>
              </a:rPr>
              <a:t>Мониторинг владельцем процесса и куратор свы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Номер слайда 9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E8FE-1A6D-4E73-B575-99B46F8437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1208160" y="428760"/>
            <a:ext cx="779292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f271c"/>
                </a:solidFill>
                <a:latin typeface="Corbel"/>
              </a:rPr>
              <a:t>Управление сквозными процессам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142920" y="2138400"/>
            <a:ext cx="8858160" cy="4148280"/>
          </a:xfrm>
          <a:prstGeom prst="rect">
            <a:avLst/>
          </a:prstGeom>
          <a:ln w="0">
            <a:noFill/>
          </a:ln>
        </p:spPr>
      </p:pic>
      <p:sp>
        <p:nvSpPr>
          <p:cNvPr id="424" name="Номер слайда 8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A481-5CEC-4EB0-A7C6-F25BED6D26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По каким критериям выбирать сквозные процессы для оптимизации?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143000" y="2000160"/>
            <a:ext cx="781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есурсы, находящиеся в управлени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процесс стратегического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озможный масштаб проблем, связанных с несоответствующими выходами процесса 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процесс разработки нового продукта, процесс разработки меню и т.п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вторяемость процесса 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много раз в сутки, несколько раз в месяц и т.п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Тиражируемость» процесса 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использование в разных филиалах  и т.п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начительные потоки информации (документов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ажность процесса с точки зрения корпоративной культуры 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процесс приема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 увольнения сотрудников, процесс подготовки к празднованию Нового года ;-)) и т.п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1"/>
          <a:stretch/>
        </p:blipFill>
        <p:spPr>
          <a:xfrm>
            <a:off x="6786720" y="1500120"/>
            <a:ext cx="1214280" cy="1214640"/>
          </a:xfrm>
          <a:prstGeom prst="rect">
            <a:avLst/>
          </a:prstGeom>
          <a:ln w="0">
            <a:noFill/>
          </a:ln>
        </p:spPr>
      </p:pic>
      <p:sp>
        <p:nvSpPr>
          <p:cNvPr id="428" name="Номер слайда 6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B297-C0F7-434E-8CAC-AFE4AD2A98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14280" y="4996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Автоматизация сквозных процессов в </a:t>
            </a:r>
            <a:r>
              <a:rPr b="0" lang="en-US" sz="3400" spc="-1" strike="noStrike">
                <a:solidFill>
                  <a:srgbClr val="572314"/>
                </a:solidFill>
                <a:latin typeface="Gill Sans MT"/>
              </a:rPr>
              <a:t>BPM</a:t>
            </a: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-системе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43000" y="2017800"/>
            <a:ext cx="77407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се ли сквозные процессы целесообразно автоматизировать в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PM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систем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ритерии выбора сквозных процессов для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PM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системы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цесс является сквозным (т.е. проходит через несколько подразделений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оспроизводимость процесса (оптимальный вариант – процесс находится в состоянии статистической управляемости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цесс часто повторяется (несколько раз за рабочий день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рамках процесса существует значительный документооборот (десятки и сотни документов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рамках процесса активно используется программное обеспечение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частники процесса имеют доступ к компьютерам; имеется се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1" name="Picture 7" descr=""/>
          <p:cNvPicPr/>
          <p:nvPr/>
        </p:nvPicPr>
        <p:blipFill>
          <a:blip r:embed="rId1"/>
          <a:stretch/>
        </p:blipFill>
        <p:spPr>
          <a:xfrm>
            <a:off x="7072200" y="1357200"/>
            <a:ext cx="1166760" cy="1166760"/>
          </a:xfrm>
          <a:prstGeom prst="rect">
            <a:avLst/>
          </a:prstGeom>
          <a:ln w="0">
            <a:noFill/>
          </a:ln>
        </p:spPr>
      </p:pic>
      <p:sp>
        <p:nvSpPr>
          <p:cNvPr id="432" name="Номер слайда 6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E5E3-C592-4B52-8B1C-4A4870033E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928800" y="1285920"/>
            <a:ext cx="800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трудовой процесс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Ф.Тейлор). Выделение и анализ блоков «человек-труд», разделение труда на элементарные части и оптимизация их выполнения, человек – запчас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машин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А. Файоль, Л. Урвик). Выделение функциональных звеньев, планирование, координация, контроль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общин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Э. Мэйо, Ф. Ротлисбергер). «Неформальная» структура организации, социально-психологическая «организация в организации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систем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(Дж. Марч, Г. Саймон). Техническая подсистема, административная, неформальная, экономическая и т.п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организм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нутренние органы, характер, болезни и т.п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бюрократическая структур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(М. Вебер). Бюрократическая концепция социума, рационализация поведения человека, стандартизация деятельности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политическая систем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(М. Крозье). Классовая концепция устройства. Групповые интерес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дело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(Г. Альтшуллер). Совокупность взаимодействующих процесс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70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Различные взгляды на организацию как систему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1254-AC79-4BEE-BFA5-0CD483F663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Понятие синергии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000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инерги́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инерги́зм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(от </a:t>
            </a:r>
            <a:r>
              <a:rPr b="0" lang="ru-RU" sz="24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греч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συνεργία Synergos — вместе действующий) — это комбинированное воздействие двух или более факторов, характеризующееся тем, что их объединённое действие существенно превосходит эффект каждого отдельно взятого компонента и их сумм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+1=4 или 6?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инергия внутри организации: сквозные процессы, организация как систем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инергия при слиянии организац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8B12-77C4-4D3C-AF08-F5F2919C96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Условия возникновения синергии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71360" y="1699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личие нескольких субъектов (организаций, подразделений, специалистов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озможность налаживания коммуникаций между объекта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Единая система измерений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цен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цели и показател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перационные определе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отивация на получение эффект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личие необходимых ресурсов для реализации эффектов (в т.ч. времени руководителей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BD0A-3C2B-4874-ABEF-AA7F2E5D01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4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Синергия при взаимодействии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73160" y="149976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Продажа продукции компании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взаимодействие менеджера по продаже, маркетолога, инженера, финансиста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огласование условий договора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взаимодействие менеджера по продажам, юриста, финансиста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Разработка нового изделия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взаимодействие маркетолога, менеджера по продажам, технолога, менеджера по закупке, экономиста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Прием на работу нового сотрудника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взаимодействие менеджера по персоналу, начальника подразделения, мастера-наставника, бухгалтера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0F1E-1753-4DFE-B2A3-B08EE38860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70920"/>
            <a:ext cx="74995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имеры потерь и их причин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C3D3-2D90-4F4F-BEEB-7A880AC2DC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0" descr=""/>
          <p:cNvPicPr/>
          <p:nvPr/>
        </p:nvPicPr>
        <p:blipFill>
          <a:blip r:embed="rId1"/>
          <a:stretch/>
        </p:blipFill>
        <p:spPr>
          <a:xfrm>
            <a:off x="-173160" y="642960"/>
            <a:ext cx="98888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7499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ичины неэффективных процессов </a:t>
            </a:r>
            <a:r>
              <a:rPr b="0" i="1" lang="ru-RU" sz="2800" spc="-1" strike="noStrike">
                <a:solidFill>
                  <a:srgbClr val="572314"/>
                </a:solidFill>
                <a:latin typeface="Corbel"/>
              </a:rPr>
              <a:t>(один из возможных взглядов)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E5AC-2768-4B4F-8D01-C416CF2525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-25560" y="1428840"/>
            <a:ext cx="92138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428760"/>
            <a:ext cx="7499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Проблемы, возникающие из-за неэффективных процессов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3282-EB56-46C8-8922-897CEB07D1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071720" y="1842840"/>
            <a:ext cx="764352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нижение прибыли, неэффективное использование капитал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изкий темп развития организац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достаточное качество продукции, неудовлетворенные клиенты, потеря рынка сбы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изкие зарплаты, неудовлетворенность сотрудников своим труд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9:38:36Z</dcterms:created>
  <dc:creator>www</dc:creator>
  <dc:description/>
  <dc:language>en-US</dc:language>
  <cp:lastModifiedBy>www</cp:lastModifiedBy>
  <dcterms:modified xsi:type="dcterms:W3CDTF">2009-01-19T09:14:46Z</dcterms:modified>
  <cp:revision>135</cp:revision>
  <dc:subject/>
  <dc:title>BPM – последняя надежда системной оптимизации компании</dc:title>
</cp:coreProperties>
</file>